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574F-8843-4A51-9531-00A7BD046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1501-5D9F-457A-9BE2-C65FC5D2D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7FD6-E54C-4982-88FA-35CA0C28E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F182-0253-46F6-BD9C-B1A2FE54C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EA6C-DC5E-4A2B-BB85-FB494D3C7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4BDC-87AF-48D9-AB70-A1926C961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206D-8CF0-4B1F-A80C-557D7C84C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E633-FC6D-4BCB-AD5D-9AC587BE4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FADC-A054-4336-BC7B-DD30B47A9BD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4B5DA-6E70-42DC-B06D-B2305D79BE6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4673B-B34E-4EC3-9E3E-C3183D7D864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4E65C-6D91-45E0-AD14-FF9D9CB7E60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A1623-9491-41B9-AAD1-2B7AFDCA0D4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4A127-F51C-4B02-AFA7-51EE48C4320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73E99-67A5-445B-9BF9-5AA57057690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59E00-454D-4540-B824-B9DA7C3A002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806BF-B54D-4691-962E-7D3F22FDEB6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506D2-40B9-453E-9BEA-A84FA58BBC2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B05C9A-0966-4C3D-A9A9-D3DCFE673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494B9-7F6B-45DB-A835-C8DFBEE2E69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58F033-B903-4FE9-A0A2-BB3FA964CC6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19839-601E-4BBA-9BD8-06B9A053CE8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E68CD0-2BF9-493C-B71A-94CD004751C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EC7027-4179-4931-A7A6-8C792DFF9DC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731373-A53C-4BF0-A977-61611111BBE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193C7E-A741-4D19-BA72-884B13FCD4C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59A376-9AD9-48E3-99BC-45E14E5B21A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8BD87D-4D66-4428-A2BA-636746EB0C0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8E786B-5592-4A41-AFCC-003527810C3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85C8A6-B531-49B4-9E4B-9F6CE4179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234BE-6B3B-4587-ACA1-E67E622E56C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5861B-68E0-4DFF-AFA1-89F3F926019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C07BD2-3E27-410C-B80D-4844F5A78A1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801D14-0916-4817-80B8-7B03228D1B2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013FF4-E186-47BD-8F0F-B621246B43C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C74BCF-5474-457F-8808-BC07BC0C901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AD8905-54A8-45FD-8A93-09C472EAD8E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9AB915-C4EC-4CCB-81D9-3F1825549F4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788B28-E3FD-45BC-AEA9-5049AFA3CCE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61A68D-DA98-4445-B091-C3D15DEEC39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A542B4-2801-4D27-906D-58920897A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E2B89-F357-4517-82BA-6459CC0D026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32C575-720A-4490-ADD4-333B8B50196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7ADC15-FB56-423E-B270-4DF431B979E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0F92AB-6A19-499D-B962-8C9893CDAAB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2D384-57AF-4D79-8E3B-8B9C2D0095D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84ECF-C9FC-4A1C-BA3E-A0E82DA9E6A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9FF3D-961C-4DFC-8D31-9D6A4EADB7D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75C78-FA8B-4D3A-A499-EB5A043C059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F48BC-8FC5-41F5-8066-CC1DC049987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16251-E921-498B-8D5F-1C5F997D125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D4B23-3117-4529-808B-52C25FF1B1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508BB-D655-442F-AE7C-5909FF81F28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1D2D6-0938-44E9-8571-EC74B87AC71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8FE82-4A9E-4D2B-9545-C64D5D491E6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0EA4F-E5A9-4547-AEBB-73307C6A693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36612-A23B-4D79-B128-4243F23CF55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AF579-144C-48C4-930B-585EEAC5E3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07227-1C3D-4F6B-A909-61BBE9595F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2A16A-3B42-410C-BD3B-F34AE6841D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75225-04AF-490E-A491-61E5C97E64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C255B-DCC8-4B13-AA08-648BDF72D6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3792C-FEC3-4B86-AD3A-458343F892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22FA-522E-4C8B-965A-FDA95B72A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56BD4-B48D-43CF-B74F-B1003B5E2D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7C604-A334-48D8-B0A3-EBFB3A64E0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2E466-3920-4E70-823B-8762C4032F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891B9-4D10-4F6A-A3B9-107B44E99C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6B5E6-C995-4D23-B14F-CCDC2C4D1C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84B0-2774-42A3-9862-D1D5227CE3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42E6-B751-4B90-84CA-128A9D7CC0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134A-1903-4C8C-848E-A8A14D2BC6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ADB4-F61D-4D68-843A-6BC8D28D01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2CB5-EB46-4D2E-BBF5-29E4651342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5132-CCB3-4EC3-A9AC-FF5DB7D055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9DA5-9285-4BBF-AD3D-1BCD13790B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394E-29D4-4DA6-8705-7340492662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F8B1-A1F6-445D-966E-10E92F7727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5D52-A9C1-4E31-972B-05FE7F8A79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D47A-6488-418D-B374-FE42A3F6AF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0B3F-3D85-4B55-B68B-6F2D300B9A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9A13-8563-40E6-81FE-7672C1FC49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7552E-9BEE-444C-A888-7FE8011962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C72DD-D894-4515-AC70-CAB15F684C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19820-3BB2-4E1E-8E64-AA92FACF9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BFC3-E0DB-485D-BADC-8E071CFCE8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D4937-8A9A-43F1-9CF3-D6A0D1DC72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CED1F-2CCA-42B1-BD92-30F391DE5B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E9E2D-54C6-4245-B74A-DA6BAC7A56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E3852-CA10-4D83-9386-4A40624D37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10989-4582-4F64-820A-636B36366F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7D099-3F40-4195-A3D8-9D168A9A0D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7818F-A3C5-4416-A3B2-8741E38E36D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F73CA-6F59-4011-8828-49787B1BB1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AE514-C71D-465E-842D-63DB136EEF6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E58B5-452D-4EBA-97B4-2860FB8FA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F445-758C-4800-BB44-5A65C83F538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D3EED8-A209-47EB-864F-BD49386B1C2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00981-511D-4684-8F09-F2AE8041979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57B13-18FF-45CD-8F43-38CE5425774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D1AD58-2FA2-43CD-A1BC-06B9C7449C2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57046C-6287-4E03-B10A-A8237E11FB8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04822A-E000-435E-B03E-A34ADE4191E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7A1C8B-9FF9-4F95-A293-70EE3E7F5E2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FF6748-8B3F-4587-9D2F-F3EFA7FBA32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EBAB2-37B6-4789-BECF-FB4596E2980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1D21E0-054B-4EE3-BD7C-11D9E43D8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24B0-0010-4287-896A-353CBD9EC3F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A00DF4-D0C9-48B2-9118-9E1BFC43B4E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CD279-29D0-4595-A598-25F6D9BFFD1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1BE69-2BB2-49C8-A96B-36749474714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31137-0EE0-494F-B4E4-00D7266BB77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BA5CF-44FE-43DA-90F8-EA9B73CAFE4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31B13-4B6B-4347-88D6-FBB19C44C7A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6250E-8BD4-4BF9-80CB-9EC524063A3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F4024-8434-4F8B-AE24-77EB94DED2F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C4547-9033-44D4-8883-E24C7D67439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452AC-E178-413C-A224-4E8B0E3DD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7E52-2A81-4CEA-A5B7-36DBDBF28F3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177C5-2584-4A87-95DA-1991F70778C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A1E91-83FB-41A5-A631-8F45D8F9DA5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32651-C4D5-479F-8285-3536EBDBB49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750CE6-938E-404F-B02B-3D8A64260DF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0A9858-A3CC-4DF0-92A8-7487B4904B3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1948C-56C3-478E-8FE1-DDA7393C042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2240E-557E-4AA0-8A8D-04B4612B95B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B46DB-506A-441A-B863-518A6B6336D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70F89-20D4-4AC1-8EB6-6F969E80D3B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AA14B-7235-4F5E-8D29-F91F490DF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0D19A-2711-4254-B7F3-ECB06D6E2A8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8CD5D-ABB2-49DE-90D2-9C6F3271241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40498-AB23-431E-B990-9D1F793D873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C85D8-F03A-4167-9A43-B1F81547817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F3901-87E8-44FE-B74B-A5E15C5AB4C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0E5AF-A2A4-4124-B99E-EBD54D80A22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685BF3-8FC4-4DFF-9A96-AC3E6F6DECD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87C8BC-A905-4359-8693-0C69BC511EB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957DF2-9950-4CF2-ACEF-3E9704F455F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40412E-3D93-4521-B41D-605E1F40004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6EACE9-9747-43E5-9F48-89F79AF2E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C6B7-CE09-4205-9DED-DD1200F53BC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F80D67-70BF-411E-9DE5-F2B450CDA8D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63C52B-8389-41A5-8175-2CAD34A01DF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77FC96-A640-4A19-8B7E-C96D7EC6B70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DBF7F7-C15B-4C09-B8F2-9EB32CFEFF2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ED06E0-EB5E-42B3-8C1B-C79BE6B39B1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CBF3FE-0984-4AF1-927D-EF54BD4E2D0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B42B68-617B-4A41-A9A2-907B649D126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BA021-5CFF-469A-8DA6-FD2D7D4C272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4FDDD-64D0-4EB7-AD20-929D05A5793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96B17-89C0-4EA4-A0E5-3F37E21A0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E14B90DA-ADA6-4BB8-835B-B99EB0F07B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1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A7C8196D-E900-4BAC-B258-767EF333D4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ftr" idx="2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F2A0619C-3BC9-493E-BEB9-D7C325E62B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2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59729573-AF09-4C54-8F71-5837A9E193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1F8737A7-0C4C-4A61-BB95-3B3EE906D3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6DFC31CC-1691-468D-ADE3-54C4D8B58A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DF6CC4D2-DB4A-4C5A-88C6-AC991BEE0C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857618F4-91C3-42AB-9140-F12DDF9E8F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E8C7F04C-61D0-4805-B9D5-45E0990593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1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2C315010-55D1-45D1-A08E-E1B46D98D4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66E20354-CACD-4A8E-B82D-628BAE5319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896546E9-029B-4652-91F2-0CA308E853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2-</a:t>
            </a:r>
            <a:fld id="{0C8E7636-6626-4045-964F-F104169CBBB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4" descr="c01l02_p016_01"/>
          <p:cNvPicPr/>
          <p:nvPr/>
        </p:nvPicPr>
        <p:blipFill>
          <a:blip r:embed="rId1"/>
          <a:stretch/>
        </p:blipFill>
        <p:spPr>
          <a:xfrm>
            <a:off x="457200" y="1587600"/>
            <a:ext cx="822960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2-</a:t>
            </a:r>
            <a:fld id="{4BCDD532-5DE0-42B6-A1AA-51F8C6F5816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numbers ending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u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ch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tiu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ave more than one form. Before masculine noun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n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Before feminine noun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c01l02_p016_02"/>
          <p:cNvPicPr/>
          <p:nvPr/>
        </p:nvPicPr>
        <p:blipFill>
          <a:blip r:embed="rId1"/>
          <a:stretch/>
        </p:blipFill>
        <p:spPr>
          <a:xfrm>
            <a:off x="457200" y="4038480"/>
            <a:ext cx="82296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2-</a:t>
            </a:r>
            <a:fld id="{60941CA1-2881-4327-8B28-1990DF491A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¡Atenció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tiu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ed when counting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tiu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tidó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). They are also used when the 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llow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un, even if the noun is feminin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lección u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2-</a:t>
            </a:r>
            <a:fld id="{AC60FD4A-9124-49C0-988D-E41CB442B5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many peop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ng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,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ánt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masculine nouns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ánt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feminine nou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2-</a:t>
            </a:r>
            <a:fld id="{EDBAF9EE-1112-4429-9614-DFDC74A9B60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93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anish equivalent of bo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¿Hay...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s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there...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e there...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h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pre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is 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are 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c01l02_p016_03"/>
          <p:cNvPicPr/>
          <p:nvPr/>
        </p:nvPicPr>
        <p:blipFill>
          <a:blip r:embed="rId1"/>
          <a:stretch/>
        </p:blipFill>
        <p:spPr>
          <a:xfrm>
            <a:off x="457200" y="2590920"/>
            <a:ext cx="8229600" cy="2474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c01l02_p016_04"/>
          <p:cNvPicPr/>
          <p:nvPr/>
        </p:nvPicPr>
        <p:blipFill>
          <a:blip r:embed="rId2"/>
          <a:stretch/>
        </p:blipFill>
        <p:spPr>
          <a:xfrm>
            <a:off x="457200" y="5041800"/>
            <a:ext cx="82296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2-</a:t>
            </a:r>
            <a:fld id="{D0E73682-6AE8-42AB-8272-3C2C62477A8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66" descr="intentalo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9" name=""/>
          <p:cNvGraphicFramePr/>
          <p:nvPr/>
        </p:nvGraphicFramePr>
        <p:xfrm>
          <a:off x="703440" y="2184480"/>
          <a:ext cx="7738920" cy="2890800"/>
        </p:xfrm>
        <a:graphic>
          <a:graphicData uri="http://schemas.openxmlformats.org/drawingml/2006/table">
            <a:tbl>
              <a:tblPr/>
              <a:tblGrid>
                <a:gridCol w="1935000"/>
                <a:gridCol w="1935000"/>
                <a:gridCol w="1933560"/>
                <a:gridCol w="1935360"/>
              </a:tblGrid>
              <a:tr h="731880">
                <a:tc gridSpan="4"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the Spanish words for these numbe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9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9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9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9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3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3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3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3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Jose</cp:lastModifiedBy>
  <dcterms:modified xsi:type="dcterms:W3CDTF">2013-08-18T01:20:57Z</dcterms:modified>
  <cp:revision>48</cp:revision>
  <dc:subject/>
  <dc:title>PowerPoint Presentation</dc:title>
</cp:coreProperties>
</file>